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B0F-8350-4A63-8F8F-A4573BF1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715-2D74-4370-B6D6-D4295AFF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F19-A756-4885-8448-4781D831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F47-38AA-455D-B5C4-8A6C3AE4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98A-B3EF-4E26-B641-C18AC3F4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85D-D71D-45F2-8100-E985D886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0C0-E972-4B19-A0D9-15757A7C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13A-A245-4DBD-BA20-FBB181E4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FE8-A82E-442D-B411-152C505B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2A2-75AD-4F03-84D5-5DF4446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6AB-F1F1-48C1-B995-0C2BCECA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E76-3C6A-48ED-8E9E-441415A5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A50F-A817-4A08-8012-672A43F71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10-4   Neutralization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95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-Base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6765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ixing a solution of a strong acid containing hydronium ions with a solution of a strong base that has an equal number of hydroxide ions, a neutral solutio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819520"/>
            <a:ext cx="6781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(aq) + NaOH(aq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Cl(aq)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200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in which a neutral solution is produced when an acid and base combine to produce a salt and water is called neutra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43434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as to be in the exact mole ratios of a BALANCED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cids and bases react, they generally will form a salt an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752480"/>
            <a:ext cx="739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, table salt but that’s not all:  KCl,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89548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+       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    +   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200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dronium ion               Hydroxide ion                 water                        wa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1337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alts are compounds consisting of an anion from and acid and a cation from 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505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ration: process of adding a known concentration to determine the concentration of another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cids and based do not always react in a 1:1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648320"/>
            <a:ext cx="76197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4(aq)  +      2NaOH(aq)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q)       +     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5029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mol Sul Acid          2 mol Sod Hydroxide      1 mol Sod Sulph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m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 when we get to the point where the acid and base mixture has equal mols of hyrdogen ions and hydroxide ions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c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k back to titration.  The solution which has the known concentration is called the standard solu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8195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itration (adding the standard solution to the other solution to determine its concentration) continues until the indicator says “We have a winner!”…neutr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40384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oint at which the indicator turns color is called the end point.  (see page 615 Figure 19.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1:53:29Z</dcterms:created>
  <dc:creator>Farwell Area Schools</dc:creator>
  <dc:description/>
  <dc:language>en-US</dc:language>
  <cp:lastModifiedBy>Farwell Area Schools</cp:lastModifiedBy>
  <dcterms:modified xsi:type="dcterms:W3CDTF">2009-02-16T14:07:28Z</dcterms:modified>
  <cp:revision>2</cp:revision>
  <dc:subject/>
  <dc:title>Note Guide 10-4   Neutralization Reactions</dc:title>
</cp:coreProperties>
</file>